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E830-FAE9-4FBD-BE72-46AFEBEDE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72CC-3FE5-4671-870F-63668F5FD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44FD-2B8B-47FE-99B1-8399DBA60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B433-8D04-48E4-AEE4-823B20339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0BF5-D040-425A-B9F4-5747D03AC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3A11-B593-4B5E-BFA7-6F0B14C23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8B99-5B9B-4205-BBF0-20864B9E1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DFAD-303B-423B-9BD9-033DD4740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8A73-7BD0-441F-BA32-41F4B40AC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20B6-53B1-4581-A6E0-0C85763C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0F97-1E3F-4129-BDA5-86B1A80C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9DA2-A019-44AC-B9E6-6BF79839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99BB4-95D6-41FC-8800-7F5F0C490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Comic Sans MS"/>
              </a:rPr>
              <a:t>Les Mathématiques</a:t>
            </a: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657600" y="3886200"/>
            <a:ext cx="180648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Comic Sans MS"/>
              </a:rPr>
              <a:t>Les mathémati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La réponse d’une addition est </a:t>
            </a:r>
            <a:r>
              <a:rPr b="1" lang="fr-CA" sz="3200" spc="-1" strike="noStrike" u="sng">
                <a:solidFill>
                  <a:srgbClr val="000000"/>
                </a:solidFill>
                <a:uFillTx/>
                <a:latin typeface="Comic Sans MS"/>
              </a:rPr>
              <a:t>la somme</a:t>
            </a: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La réponse d’une soustraction est </a:t>
            </a:r>
            <a:r>
              <a:rPr b="1" lang="fr-CA" sz="3200" spc="-1" strike="noStrike" u="sng">
                <a:solidFill>
                  <a:srgbClr val="000000"/>
                </a:solidFill>
                <a:uFillTx/>
                <a:latin typeface="Comic Sans MS"/>
              </a:rPr>
              <a:t>la différ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La réponse d’une multiplication est </a:t>
            </a:r>
            <a:r>
              <a:rPr b="1" lang="fr-CA" sz="3200" spc="-1" strike="noStrike" u="sng">
                <a:solidFill>
                  <a:srgbClr val="000000"/>
                </a:solidFill>
                <a:uFillTx/>
                <a:latin typeface="Comic Sans MS"/>
              </a:rPr>
              <a:t>le produ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La réponse d’une division est </a:t>
            </a:r>
            <a:r>
              <a:rPr b="1" lang="fr-CA" sz="3200" spc="-1" strike="noStrike" u="sng">
                <a:solidFill>
                  <a:srgbClr val="000000"/>
                </a:solidFill>
                <a:uFillTx/>
                <a:latin typeface="Comic Sans MS"/>
              </a:rPr>
              <a:t>le quotient</a:t>
            </a: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429000" y="4800600"/>
            <a:ext cx="174780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Comic Sans MS"/>
              </a:rPr>
              <a:t>La multi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Arial"/>
              </a:rPr>
              <a:t>1x1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Arial"/>
              </a:rPr>
              <a:t>1x2=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Arial"/>
              </a:rPr>
              <a:t>1x3=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Arial"/>
              </a:rPr>
              <a:t>1x4= 4…continue jusqu’à 1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429000" y="4495680"/>
            <a:ext cx="1747800" cy="16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Comic Sans MS"/>
              </a:rPr>
              <a:t>La multi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Arial"/>
              </a:rPr>
              <a:t>2x1=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Arial"/>
              </a:rPr>
              <a:t>2x2=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Arial"/>
              </a:rPr>
              <a:t>2x3=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Arial"/>
              </a:rPr>
              <a:t>2x4= 8…continue jusqu' ’à 10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505320" y="4191120"/>
            <a:ext cx="174780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5T11:09:14Z</dcterms:created>
  <dc:creator>nbdoe</dc:creator>
  <dc:description/>
  <dc:language>en-US</dc:language>
  <cp:lastModifiedBy>nbdoe</cp:lastModifiedBy>
  <dcterms:modified xsi:type="dcterms:W3CDTF">2008-09-26T13:22:04Z</dcterms:modified>
  <cp:revision>3</cp:revision>
  <dc:subject/>
  <dc:title>Les Mathématiques!!</dc:title>
</cp:coreProperties>
</file>